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C08-A644-4BE0-A5E6-243157BA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72E-86E3-4640-824B-8BF98EA9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966-2704-4513-A9F4-F5AC6F50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557-C90C-49F1-AEB2-82890F98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B3AB-47F9-4A8F-9F71-9839A501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30C5-AAEC-467C-82CB-FCDED8D6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2530-81C2-4665-9A10-F594DBDF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5899-F98D-44B2-B3A3-CBD9DC7B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04FC-F89D-407D-958D-84BBEE35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DA43-A573-4822-A389-15E1941F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0919-0B89-4927-B460-816AEF2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DC3-EB2E-4B3F-B846-ED88EB41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B6BE-FA1A-40A9-8725-AF0260FC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11CC-0D57-4068-94D9-4A119F04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74EC-DBDC-4E93-BF48-2A2DE37E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1BF5-683B-4BA2-8D7D-756C54AE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57D5-E55A-4E2F-AB21-8900B177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C53-92BC-4E56-964E-CCC6D1C5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E0A-7991-431A-801F-C0B2B60E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6CC-7F9B-4A79-85D4-4484C989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0F4-E65A-4AC0-8FF8-FD887276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246-241E-48A6-998A-F7EF30FA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EAB-6C96-4DFC-A849-53BA35BD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654-1015-4B5B-8532-FBDA6CE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998F-EF10-40BB-97E1-38A6977AD6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144D-2282-464A-AFD2-CE4C1AE8B1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owl.english/" TargetMode="External"/><Relationship Id="rId2" Type="http://schemas.openxmlformats.org/officeDocument/2006/relationships/hyperlink" Target="http://www.alpine.k12.ut.us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Berlin Sans FB Demi"/>
              </a:rPr>
              <a:t>Plagiarism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o’s and Don’t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fo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MAIN ID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fo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MAIN ID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 notes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WITHOUT LOOK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he source as often a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fo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MAIN ID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 notes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WITHOUT LOOK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he source as often a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 your notes with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Q, P, S, or 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quotes, summary, paraphrase, or “m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fo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MAIN ID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 notes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WITHOUT LOOK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he source as often a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 your notes with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Q, P, S, or 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quotes, summary, paraphrase, or “m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 you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fo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MAIN ID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 notes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WITHOUT LOOK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he source as often a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 your notes with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Q, P, S, or 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quotes, summary, paraphrase, or “m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 you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 your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OWN VO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sty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ing Plagiarism : Don’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ing Plagiarism : Don’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minimize the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SERIOUSN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plagia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ing Plagiarism : Don’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minimize the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SERIOUSN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plagia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just repeat information you find –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INTERPRET, ANALYZE, and SYNTHE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ing Plagiarism : Don’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minimize the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SERIOUSN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plagia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just repeat information you find –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INTERPRET, ANALYZE, and SYNTHE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just work for a grade – work for real </a:t>
            </a:r>
            <a:r>
              <a:rPr b="0" lang="en-US" sz="2800" spc="-1" strike="noStrike">
                <a:solidFill>
                  <a:srgbClr val="60b060"/>
                </a:solidFill>
                <a:latin typeface="Berlin Sans FB Demi"/>
              </a:rPr>
              <a:t>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u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Learning Center at Plagiarism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ing Plagiarism a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owl.englis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urdue.edu/owl/resource/589/01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a Center Legal – Module 8 – Lesson 6 – Plagiarism a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alpine.k12.ut.us/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epts/media/elemlessons_rev/m8-legal_ issues/lesson6plagiarism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urning in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OMEONE ELSE’S WORK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urning in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OMEONE ELSE’S WORK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OPY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someone else’s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WORD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ideas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urning in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OMEONE ELSE’S WORK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OPY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someone else’s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WORD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ideas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ailing to use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QUOTATION MARK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properl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urning in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OMEONE ELSE’S WORK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OPY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someone else’s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WORD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ideas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ailing to use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QUOTATION MARK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properl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iving incorrect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ITATIO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nform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urning in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OMEONE ELSE’S WORK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OPY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someone else’s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WORD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ideas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ailing to use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QUOTATION MARK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properl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iving incorrect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ITATIO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nform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hanging words but copying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ENTENCE STRUCTUR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plagiaris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urning in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OMEONE ELSE’S WORK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OPY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someone else’s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WORD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ideas as your ow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ailing to use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QUOTATION MARK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properl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iving incorrect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CITATIO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nform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hanging words but copying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SENTENCE STRUCTUR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pying so many words and ideas from sources that they makes up a </a:t>
            </a:r>
            <a:r>
              <a:rPr b="0" lang="en-US" sz="2600" spc="-1" strike="noStrike">
                <a:solidFill>
                  <a:srgbClr val="60b060"/>
                </a:solidFill>
                <a:latin typeface="Berlin Sans FB Demi"/>
              </a:rPr>
              <a:t>MAJORITY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f your wor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oid Plagiarism : D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32:41Z</dcterms:created>
  <dc:creator>OHMS</dc:creator>
  <dc:description/>
  <dc:language>en-US</dc:language>
  <cp:lastModifiedBy>OHMS</cp:lastModifiedBy>
  <dcterms:modified xsi:type="dcterms:W3CDTF">2009-01-22T16:26:38Z</dcterms:modified>
  <cp:revision>2</cp:revision>
  <dc:subject/>
  <dc:title>Plagiarism</dc:title>
</cp:coreProperties>
</file>